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779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0480"/>
            <a:ext cx="485964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88452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029680"/>
            <a:ext cx="156456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0480"/>
            <a:ext cx="485964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02968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884520"/>
            <a:ext cx="237132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029680"/>
            <a:ext cx="4859640" cy="10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1979640"/>
            <a:chOff x="900000" y="900000"/>
            <a:chExt cx="3600720" cy="197964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1979640"/>
              <a:chOff x="900000" y="900000"/>
              <a:chExt cx="3600720" cy="197964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88892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34000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1979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44800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116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納品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請求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25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納品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請求付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名入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0480"/>
            <a:ext cx="4859640" cy="6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884520"/>
            <a:ext cx="48596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29:59Z</dcterms:modified>
  <cp:revision>6</cp:revision>
  <dc:subject/>
  <dc:title>PowerPoint プレゼンテーション</dc:title>
</cp:coreProperties>
</file>